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AD2-84A7-4F24-A3F6-CB09C1C2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19F-80EC-4D1F-A143-117907CF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645-7D80-4A09-AAD4-E70F273B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5EC-241E-47AE-91F2-0B47B070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7DDD-A501-41E6-A43B-FB0447BB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E946-389F-4A9F-B29E-BA967459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4DF2-33F7-444D-8862-85EA340F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2692-04A3-4C98-B7B0-E7243381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A803-CC51-4214-AF76-A24F4143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4947-E15D-416F-AD06-63F5A5FE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5FD9-DD18-46AB-94F8-D2B64E30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DCC-D484-49CB-95BF-9FB7C0E7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46E0-EA77-4E5A-AC75-DF7B84C4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E63F-42D1-4F62-BCF0-0D4F4CD3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E49B-C0E6-41A9-BCC6-209254F0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981A-0FB2-43F5-9C3B-0F3C689B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4DE8-A91E-42AB-9750-30A7FE70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55D38-0F17-4E90-93B7-C638AC59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5C9E5-0EB5-4795-A056-5C7182BE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AF3D3-1C0D-4BC6-911A-6E2E272C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BC3F5-3688-45DF-BE55-A6275BE3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09D5-4A6E-4949-A289-DF66D3CB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7A1-3A20-460E-A3D3-79B93384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593A8-C5B9-4802-9BBF-A3304278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082E-6C12-458D-8839-3BC2F3F1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860C5-5E4C-4387-986E-94C0500C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714F7-EF27-47E6-9049-DE037E2E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647F0-7A4F-4DE7-AA3C-349B69C9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3F82E-26B5-4B4C-8B2C-CA48100C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3EF33-BEB0-45D4-B8FB-64D65E59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7BB13-69F1-4F3D-B48A-D1172B74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EFC30-71D2-4F04-A4F3-3EEEEFFD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22A63-E871-4D61-A57F-F1BF008E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BE6-0623-4717-B232-3B418331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3D3F8-FB99-4B7F-91DD-E23D8796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2F85C-C2C6-4082-888F-13677D22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058C8-4C22-4A6A-9F08-D9A8ABE6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BBE77-E4DD-4477-B341-949A5396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31683-D671-4B04-B829-ADDA2E98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1F776-DB2E-45B7-9641-3E96F159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654FB-4705-43AB-BF26-8EBC015C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A952A-5063-442A-B4F9-6F871281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CCBD7-64F2-416E-93BB-11E14383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96D-19C6-4B8B-8EE6-5C6A6730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195F-92FF-463E-8A75-E92E99E4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7B7-736A-4CA7-8B27-B5301942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F21-6A17-4132-8337-96794772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1B2-A434-42B1-A735-263EDD22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8C27-46E7-4AB6-AE54-B486BD85FA5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819C-95EC-4C6D-ADC0-13E77F1ECB1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F6A8-3862-4143-B355-2D3A16C45EB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36CD-8043-47E4-A5DE-0736576E39B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538px-Hexahedron"/>
          <p:cNvPicPr/>
          <p:nvPr/>
        </p:nvPicPr>
        <p:blipFill>
          <a:blip r:embed="rId1"/>
          <a:stretch/>
        </p:blipFill>
        <p:spPr>
          <a:xfrm>
            <a:off x="2843280" y="2205000"/>
            <a:ext cx="3573360" cy="3978360"/>
          </a:xfrm>
          <a:prstGeom prst="rect">
            <a:avLst/>
          </a:prstGeom>
          <a:ln w="0">
            <a:noFill/>
          </a:ln>
        </p:spPr>
      </p:pic>
      <p:sp>
        <p:nvSpPr>
          <p:cNvPr id="192" name="WordArt 7"/>
          <p:cNvSpPr txBox="1"/>
          <p:nvPr/>
        </p:nvSpPr>
        <p:spPr>
          <a:xfrm>
            <a:off x="1042920" y="404640"/>
            <a:ext cx="7056360" cy="13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уб и его свой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68360" y="2276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познакомиться с понятием куб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узнать, что представляет собой сечение куб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находить объем куба по формул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- находить площадь поверхности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уба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1258920" y="765000"/>
            <a:ext cx="6256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5400000"/>
                </a:gradFill>
                <a:latin typeface="Times New Roman"/>
              </a:rPr>
              <a:t>ЦЕЛИ ПРОЕКТ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2f5e7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971640" y="304920"/>
            <a:ext cx="76388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новополагающие вопро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начало куб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является куб для нас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секреты хранит куб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облемные вопросы учебной тем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опросы учебной темы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куб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ми свойствами обладает куб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а формула объема куб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а формула площади поверхности куб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8"/>
          <p:cNvSpPr txBox="1"/>
          <p:nvPr/>
        </p:nvSpPr>
        <p:spPr>
          <a:xfrm>
            <a:off x="684360" y="189000"/>
            <a:ext cx="7812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МЕРЫ КУБ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2" name="Picture 9" descr="3057x1500y1500"/>
          <p:cNvPicPr/>
          <p:nvPr/>
        </p:nvPicPr>
        <p:blipFill>
          <a:blip r:embed="rId1"/>
          <a:stretch/>
        </p:blipFill>
        <p:spPr>
          <a:xfrm>
            <a:off x="2124000" y="1989000"/>
            <a:ext cx="4419720" cy="4419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0_ab6b_c676dc4a_L"/>
          <p:cNvPicPr/>
          <p:nvPr/>
        </p:nvPicPr>
        <p:blipFill>
          <a:blip r:embed="rId2"/>
          <a:stretch/>
        </p:blipFill>
        <p:spPr>
          <a:xfrm>
            <a:off x="1116000" y="2205000"/>
            <a:ext cx="6350040" cy="3759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23866--Large"/>
          <p:cNvPicPr/>
          <p:nvPr/>
        </p:nvPicPr>
        <p:blipFill>
          <a:blip r:embed="rId3"/>
          <a:stretch/>
        </p:blipFill>
        <p:spPr>
          <a:xfrm>
            <a:off x="3276720" y="1773360"/>
            <a:ext cx="2496960" cy="3970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1210916645_wc_11"/>
          <p:cNvPicPr/>
          <p:nvPr/>
        </p:nvPicPr>
        <p:blipFill>
          <a:blip r:embed="rId4"/>
          <a:stretch/>
        </p:blipFill>
        <p:spPr>
          <a:xfrm>
            <a:off x="1547640" y="2276640"/>
            <a:ext cx="5715000" cy="3190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Schutz_plastik9246"/>
          <p:cNvPicPr/>
          <p:nvPr/>
        </p:nvPicPr>
        <p:blipFill>
          <a:blip r:embed="rId5"/>
          <a:stretch/>
        </p:blipFill>
        <p:spPr>
          <a:xfrm>
            <a:off x="2124000" y="17002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11280" y="191592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Учебные вопросы для 1-й груп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Что такое куб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кова формула площади поверхностей куб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Учебные вопросы для 2-й груп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Что называется сечением куб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кова формула объема куб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187280" y="9079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2 группы исслед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арыгин И.Ф. , Шевкин А.В. «Математика: задачи на смекалку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льман Я.И.   «Занимательная геометр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йкин М.И.   «Развивай геометрическую интуицию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рднер М.    «Математические чудеса и тайн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116000" y="1125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6"/>
          <p:cNvSpPr txBox="1"/>
          <p:nvPr/>
        </p:nvSpPr>
        <p:spPr>
          <a:xfrm>
            <a:off x="1332000" y="2060640"/>
            <a:ext cx="7018200" cy="25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ЗА ВНИМ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ДЁМ ВАС НА НАШИ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АХ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9:58:43Z</dcterms:created>
  <dc:creator>Олюшка</dc:creator>
  <dc:description/>
  <dc:language>en-US</dc:language>
  <cp:lastModifiedBy>26529</cp:lastModifiedBy>
  <dcterms:modified xsi:type="dcterms:W3CDTF">2010-06-04T10:41:00Z</dcterms:modified>
  <cp:revision>37</cp:revision>
  <dc:subject/>
  <dc:title>Тело Вращения - цилиндр</dc:title>
</cp:coreProperties>
</file>